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BE4-97C2-43E5-8B46-A91BC979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FB8-8EED-4878-8DE9-12D39CA7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828-47FB-4B56-9580-B1DF1032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A8B-09DB-49F7-A58B-EEE49F34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C29-B8FB-4BFC-BD6A-F5067755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430-5607-4A2B-8D32-9CCCDB1E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BF0-3A05-4C9E-816B-99B2557E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5FD-2D6A-43B0-9E59-71F9CA34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B35-0A39-4215-B5A7-C0182AFB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E5F-5EEF-4AC3-83E8-DFF5492A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B4E-3201-4AA7-BC4E-28235236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4D2-019F-442E-970C-8E430FD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05EA-A996-4424-8FD2-2D1233AC7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5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3280" y="361800"/>
            <a:ext cx="7736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يسوعُ ربّنا يا نوراً من 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ئناكَ وقلبُنا بالحبِّ مغم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اقبل منا حبَّنا واملأ قلبَنا بال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يسوعُ ما لنا حبٌ سو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نِّور عقلَنا حتى نر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القربانِ أعطنا يا ربُّ أن نلقَ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مُّنا يا مريمُ البكرُ ندع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ُنا يرنمُ نحنُ بن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نكِ تنتقدمُ باركينا نرج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04:29Z</dcterms:modified>
  <cp:revision>3</cp:revision>
  <dc:subject/>
  <dc:title>PowerPoint Presentation</dc:title>
</cp:coreProperties>
</file>